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64A4-EE61-4030-98CB-E1C2914CDA8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57F5-BD55-4833-B4BD-3BA459909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52C8-BAA4-49A4-9C8B-44CD7743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9F8B-C037-46E1-9824-A26A5EA90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D740-0B6F-4021-839D-E29E356C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16BD-84DB-4B48-877E-74A53149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7F19-469D-47AE-9E5C-0E5B4163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210A-2696-4599-A79A-D3FF28DE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DBBD-F4BE-4F70-9B8F-BF27FDA2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2751-6B6E-4BCD-BE83-489B0F68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0F8E-DEAC-44D7-A4DE-8E8B056C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9AB7-39D4-4EEF-A307-511DAC4E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3690-A661-4102-8D58-5DE7DF29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7AA3-2F5D-42CB-B163-A358CCD32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line and offline data hand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large detector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esigned for non-accelerator experi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6680" y="2971800"/>
            <a:ext cx="35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Yoshinari Hayato (ICR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20440" y="3860640"/>
            <a:ext cx="4450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fficulty ( Water Cherenkov detector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transfer via Eth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format for the on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designing the data handl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of the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139040" y="5516640"/>
            <a:ext cx="76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so, this computer will allow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est the system in the “standalone mod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you can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run the remaining part of the det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196080" y="1525680"/>
            <a:ext cx="556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dout system can be consist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hardware modules on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It will be robus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one sen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274920" y="4292640"/>
            <a:ext cx="57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thus, it is possible to perfo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detailed consistency check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f the data 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he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36440" y="2924280"/>
            <a:ext cx="2735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68360" y="2421000"/>
            <a:ext cx="2087640" cy="35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74560" y="1916280"/>
            <a:ext cx="187164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5400000">
            <a:off x="1330560" y="656280"/>
            <a:ext cx="358560" cy="187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3360" y="141444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980720" y="838080"/>
            <a:ext cx="358920" cy="287280"/>
            <a:chOff x="1980720" y="838080"/>
            <a:chExt cx="358920" cy="287280"/>
          </a:xfrm>
        </p:grpSpPr>
        <p:sp>
          <p:nvSpPr>
            <p:cNvPr id="356" name=""/>
            <p:cNvSpPr/>
            <p:nvPr/>
          </p:nvSpPr>
          <p:spPr>
            <a:xfrm rot="5400000">
              <a:off x="205200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5400000">
              <a:off x="209016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547280" y="838080"/>
            <a:ext cx="358920" cy="287280"/>
            <a:chOff x="1547280" y="838080"/>
            <a:chExt cx="358920" cy="287280"/>
          </a:xfrm>
        </p:grpSpPr>
        <p:sp>
          <p:nvSpPr>
            <p:cNvPr id="359" name=""/>
            <p:cNvSpPr/>
            <p:nvPr/>
          </p:nvSpPr>
          <p:spPr>
            <a:xfrm rot="5400000">
              <a:off x="161856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5400000">
              <a:off x="165672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12360" y="838080"/>
            <a:ext cx="358920" cy="287280"/>
            <a:chOff x="612360" y="838080"/>
            <a:chExt cx="358920" cy="287280"/>
          </a:xfrm>
        </p:grpSpPr>
        <p:sp>
          <p:nvSpPr>
            <p:cNvPr id="362" name=""/>
            <p:cNvSpPr/>
            <p:nvPr/>
          </p:nvSpPr>
          <p:spPr>
            <a:xfrm rot="5400000">
              <a:off x="68364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5400000">
              <a:off x="72180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 flipH="1">
            <a:off x="1044360" y="9810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792000" y="1125360"/>
            <a:ext cx="1368720" cy="289080"/>
            <a:chOff x="792000" y="1125360"/>
            <a:chExt cx="1368720" cy="289080"/>
          </a:xfrm>
        </p:grpSpPr>
        <p:sp>
          <p:nvSpPr>
            <p:cNvPr id="366" name=""/>
            <p:cNvSpPr/>
            <p:nvPr/>
          </p:nvSpPr>
          <p:spPr>
            <a:xfrm>
              <a:off x="216072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2728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9200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 flipH="1">
            <a:off x="1511280" y="177336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17760" y="242244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82520" y="292428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 trigg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6520" y="19177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511280" y="227808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1511280" y="278280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1511280" y="335268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44360" y="3502080"/>
            <a:ext cx="2735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08000" y="35020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2040" y="109440"/>
            <a:ext cx="65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n designing the data handl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819880" y="765000"/>
            <a:ext cx="339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0000cc"/>
                </a:solidFill>
                <a:latin typeface="Comic Sans MS"/>
              </a:rPr>
              <a:t>nd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 check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eadou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419640" y="3573360"/>
            <a:ext cx="56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cause each readout system does not hand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not so many PMT hi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164760" y="500688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Too much data makes you trouble in finding error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22720" y="2565360"/>
            <a:ext cx="574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I (personally) think it is bet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have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a computer in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 least 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for the error detec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988000" y="3008160"/>
            <a:ext cx="598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applying the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intelligent-trig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very important to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kee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the revisions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f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the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calibration 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oftware used to select (define) an ev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50560" y="4311720"/>
            <a:ext cx="579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me kind of information should be k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offline analysi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s al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6160" y="6345360"/>
            <a:ext cx="85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or example, missing block need to be “corrected” in the calorime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8360" y="2421000"/>
            <a:ext cx="2087640" cy="358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74560" y="1916280"/>
            <a:ext cx="1871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5400000">
            <a:off x="1330560" y="656280"/>
            <a:ext cx="358560" cy="187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3360" y="141444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1980720" y="838080"/>
            <a:ext cx="358920" cy="287280"/>
            <a:chOff x="1980720" y="838080"/>
            <a:chExt cx="358920" cy="287280"/>
          </a:xfrm>
        </p:grpSpPr>
        <p:sp>
          <p:nvSpPr>
            <p:cNvPr id="391" name=""/>
            <p:cNvSpPr/>
            <p:nvPr/>
          </p:nvSpPr>
          <p:spPr>
            <a:xfrm rot="5400000">
              <a:off x="205200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5400000">
              <a:off x="209016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1547280" y="838080"/>
            <a:ext cx="358920" cy="287280"/>
            <a:chOff x="1547280" y="838080"/>
            <a:chExt cx="358920" cy="287280"/>
          </a:xfrm>
        </p:grpSpPr>
        <p:sp>
          <p:nvSpPr>
            <p:cNvPr id="394" name=""/>
            <p:cNvSpPr/>
            <p:nvPr/>
          </p:nvSpPr>
          <p:spPr>
            <a:xfrm rot="5400000">
              <a:off x="161856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5400000">
              <a:off x="165672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612360" y="838080"/>
            <a:ext cx="358920" cy="287280"/>
            <a:chOff x="612360" y="838080"/>
            <a:chExt cx="358920" cy="287280"/>
          </a:xfrm>
        </p:grpSpPr>
        <p:sp>
          <p:nvSpPr>
            <p:cNvPr id="397" name=""/>
            <p:cNvSpPr/>
            <p:nvPr/>
          </p:nvSpPr>
          <p:spPr>
            <a:xfrm rot="5400000">
              <a:off x="68364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5400000">
              <a:off x="72180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 flipH="1">
            <a:off x="1044360" y="9810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792000" y="1125360"/>
            <a:ext cx="1368720" cy="289080"/>
            <a:chOff x="792000" y="1125360"/>
            <a:chExt cx="1368720" cy="289080"/>
          </a:xfrm>
        </p:grpSpPr>
        <p:sp>
          <p:nvSpPr>
            <p:cNvPr id="401" name=""/>
            <p:cNvSpPr/>
            <p:nvPr/>
          </p:nvSpPr>
          <p:spPr>
            <a:xfrm>
              <a:off x="216072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72728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9200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 flipH="1">
            <a:off x="1511280" y="177336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17760" y="242244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96520" y="19177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1511280" y="227808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1511280" y="278280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1511280" y="335268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885760" y="765000"/>
            <a:ext cx="472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Next check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Hit sorter + Mer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Intelligent trigg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Offlin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495960" y="2295360"/>
            <a:ext cx="489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re, it is possible to 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ll the hits from entire detecto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6440" y="2924280"/>
            <a:ext cx="273528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82520" y="292428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 trigg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040" y="109440"/>
            <a:ext cx="65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n designing the data handl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4360" y="3502080"/>
            <a:ext cx="273528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08000" y="3500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984400" y="5018040"/>
            <a:ext cx="60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so, the relation between 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he raw data ( raw hit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the reconstructed result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hould be kep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-46440" y="5680080"/>
            <a:ext cx="92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Slow monitor information (low voltage/high voltage, temperature etc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are also very impor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74760" y="836640"/>
            <a:ext cx="73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As a (raw) data storage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will be a problem in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distributing dat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3600" y="2822400"/>
            <a:ext cx="7873920" cy="21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 course,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database is very usefu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various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Keep tracks of calibration const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accelerator based long baseline experime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will be very convenient to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keep the beam ti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and the beam properti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73600" y="5877000"/>
            <a:ext cx="678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st of the time,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imple(?) data base system is enoug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OT, Berkeley DB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2560" y="101520"/>
            <a:ext cx="350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Use of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81640" y="40464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Personal opinion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10440" y="1628640"/>
            <a:ext cx="50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replication is possible but not so si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970200" y="1916280"/>
            <a:ext cx="71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orting various data access method (direct file I/O &amp; DB I/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ght cause probl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88480" y="5013360"/>
            <a:ext cx="776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But it is not necessary to use famous Relational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(Oracle, PostgreSQL, mySQL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67680" y="92160"/>
            <a:ext cx="178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93480" y="717480"/>
            <a:ext cx="735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 from the water Cherenkov type detect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 amount of data could be </a:t>
            </a: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a few GB/se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990720" y="1484280"/>
            <a:ext cx="753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It is not impossible to hand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is data with recent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the system should be designed carefu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01480" y="2205000"/>
            <a:ext cx="75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oss of the data is really critical in the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88080" y="5516640"/>
            <a:ext cx="76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ways keep in m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how to detect and investigate trou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943200" y="2637000"/>
            <a:ext cx="769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reduce the down tim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cept of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HA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ll be use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210320" y="4006800"/>
            <a:ext cx="753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necessary to recognize the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characteristic of the data flow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online/DAQ system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is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from the usual network traff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96720" y="354816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esign of the network system is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041120" y="4983120"/>
            <a:ext cx="489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ize of the packe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ight be a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1320" y="101520"/>
            <a:ext cx="22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1720" y="1101600"/>
            <a:ext cx="850752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Requiremen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or the online/DAQ system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(slightly) different</a:t>
            </a:r>
            <a:r>
              <a:rPr b="0" lang="zh-CN" sz="2000" spc="-1" strike="noStrike">
                <a:solidFill>
                  <a:srgbClr val="d60093"/>
                </a:solidFill>
                <a:latin typeface="Comic Sans MS"/>
              </a:rPr>
              <a:t>　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from the “accelerator” based exper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96400" y="1844640"/>
            <a:ext cx="689076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Rare events ( nucleon decay, super nova etc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can happen “at any tim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Natural neutrino beam is always the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Order of the events is also impor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01360" y="5840280"/>
            <a:ext cx="51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Triggered by the detector (system) itsel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40480" y="4579920"/>
            <a:ext cx="38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</a:rPr>
              <a:t>Dead-time needs be min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</a:rPr>
              <a:t>   </a:t>
            </a:r>
            <a:r>
              <a:rPr b="1" lang="en-US" sz="1800" spc="-1" strike="noStrike">
                <a:solidFill>
                  <a:srgbClr val="009900"/>
                </a:solidFill>
                <a:latin typeface="Comic Sans MS"/>
              </a:rPr>
              <a:t>Dead-time should be recor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0080" y="6237360"/>
            <a:ext cx="64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d60093"/>
                </a:solidFill>
                <a:latin typeface="Comic Sans MS"/>
              </a:rPr>
              <a:t>Condition of the detector is necessary to be recor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1440" y="62064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Large neutrino and nucleon decay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6360" y="4255920"/>
            <a:ext cx="75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Keep the detector running “</a:t>
            </a:r>
            <a:r>
              <a:rPr b="1" lang="en-US" sz="2000" spc="-1" strike="noStrike">
                <a:solidFill>
                  <a:srgbClr val="d60093"/>
                </a:solidFill>
                <a:latin typeface="Comic Sans MS"/>
              </a:rPr>
              <a:t>all the time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” without dead-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9720" y="5208480"/>
            <a:ext cx="790884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) Dead-time (down time) due to the equipment trouble or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) Dead-time due to the limitation of the DAQ/on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10000" y="3213000"/>
            <a:ext cx="69001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n generated by decay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ght be misidentified as the product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tte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w energy events might be generated by spallation produ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49440" y="328464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429264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6946560" y="3214800"/>
            <a:ext cx="1440000" cy="2519280"/>
            <a:chOff x="6946560" y="3214800"/>
            <a:chExt cx="1440000" cy="2519280"/>
          </a:xfrm>
        </p:grpSpPr>
        <p:sp>
          <p:nvSpPr>
            <p:cNvPr id="64" name=""/>
            <p:cNvSpPr/>
            <p:nvPr/>
          </p:nvSpPr>
          <p:spPr>
            <a:xfrm>
              <a:off x="6946920" y="3214800"/>
              <a:ext cx="1439640" cy="251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46920" y="4681800"/>
              <a:ext cx="0" cy="10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6946560" y="5302440"/>
              <a:ext cx="122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93800" y="530244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nd ev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25480" y="3646440"/>
            <a:ext cx="2305080" cy="1800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360" y="96840"/>
            <a:ext cx="8547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Difficu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d60093"/>
                </a:solidFill>
                <a:latin typeface="Comic Sans MS"/>
              </a:rPr>
              <a:t>(Water Cherenkov detector and relatively extreme?? c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2349360"/>
            <a:ext cx="799164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very low energy ev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2.2 MeV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(from neutron capture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generates only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~6 PMT hits in SK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7880" y="958680"/>
            <a:ext cx="758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one want to detect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very low energy eve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trigger rate gets extremely hi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This depends on the radio activity in the 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 isolation from the surrounding rock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5480" y="3357720"/>
            <a:ext cx="2305080" cy="576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5480" y="5157720"/>
            <a:ext cx="2305080" cy="576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5480" y="36464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30560" y="36464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29320" y="3309120"/>
            <a:ext cx="3025440" cy="1947960"/>
            <a:chOff x="229320" y="3309120"/>
            <a:chExt cx="3025440" cy="1947960"/>
          </a:xfrm>
        </p:grpSpPr>
        <p:sp>
          <p:nvSpPr>
            <p:cNvPr id="77" name=""/>
            <p:cNvSpPr/>
            <p:nvPr/>
          </p:nvSpPr>
          <p:spPr>
            <a:xfrm flipV="1">
              <a:off x="538200" y="4870080"/>
              <a:ext cx="5032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9320" y="4797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1041480" y="3357360"/>
              <a:ext cx="1368360" cy="1512720"/>
            </a:xfrm>
            <a:prstGeom prst="line">
              <a:avLst/>
            </a:prstGeom>
            <a:ln w="381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1041480" y="4797360"/>
              <a:ext cx="2089080" cy="72720"/>
            </a:xfrm>
            <a:prstGeom prst="line">
              <a:avLst/>
            </a:prstGeom>
            <a:ln w="381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9996800">
              <a:off x="2552760" y="3306600"/>
              <a:ext cx="365040" cy="1584360"/>
            </a:xfrm>
            <a:prstGeom prst="ellipse">
              <a:avLst/>
            </a:prstGeom>
            <a:noFill/>
            <a:ln cap="rnd" w="7632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955800" y="3069720"/>
            <a:ext cx="2660040" cy="2588040"/>
            <a:chOff x="955800" y="3069720"/>
            <a:chExt cx="2660040" cy="2588040"/>
          </a:xfrm>
        </p:grpSpPr>
        <p:sp>
          <p:nvSpPr>
            <p:cNvPr id="83" name=""/>
            <p:cNvSpPr/>
            <p:nvPr/>
          </p:nvSpPr>
          <p:spPr>
            <a:xfrm flipH="1">
              <a:off x="2266920" y="3933720"/>
              <a:ext cx="21600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955800" y="3069720"/>
              <a:ext cx="2660040" cy="2588040"/>
              <a:chOff x="955800" y="3069720"/>
              <a:chExt cx="2660040" cy="2588040"/>
            </a:xfrm>
          </p:grpSpPr>
          <p:sp>
            <p:nvSpPr>
              <p:cNvPr id="85" name=""/>
              <p:cNvSpPr/>
              <p:nvPr/>
            </p:nvSpPr>
            <p:spPr>
              <a:xfrm>
                <a:off x="1980360" y="3933720"/>
                <a:ext cx="35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265480" y="4365360"/>
                <a:ext cx="217440" cy="1081080"/>
              </a:xfrm>
              <a:prstGeom prst="line">
                <a:avLst/>
              </a:prstGeom>
              <a:ln w="38160">
                <a:solidFill>
                  <a:srgbClr val="ffcc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969480" y="4365360"/>
                <a:ext cx="1297080" cy="936720"/>
              </a:xfrm>
              <a:prstGeom prst="line">
                <a:avLst/>
              </a:prstGeom>
              <a:ln w="38160">
                <a:solidFill>
                  <a:srgbClr val="ffcc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300600">
                <a:off x="968400" y="5231880"/>
                <a:ext cx="1513080" cy="360360"/>
              </a:xfrm>
              <a:prstGeom prst="ellipse">
                <a:avLst/>
              </a:prstGeom>
              <a:noFill/>
              <a:ln w="7632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2482920" y="3069720"/>
                <a:ext cx="1079640" cy="86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276720" y="3070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" name=""/>
          <p:cNvSpPr/>
          <p:nvPr/>
        </p:nvSpPr>
        <p:spPr>
          <a:xfrm>
            <a:off x="3706920" y="515772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922560" y="4726080"/>
            <a:ext cx="358920" cy="431640"/>
            <a:chOff x="3922560" y="4726080"/>
            <a:chExt cx="358920" cy="431640"/>
          </a:xfrm>
        </p:grpSpPr>
        <p:sp>
          <p:nvSpPr>
            <p:cNvPr id="93" name=""/>
            <p:cNvSpPr/>
            <p:nvPr/>
          </p:nvSpPr>
          <p:spPr>
            <a:xfrm>
              <a:off x="3922560" y="4941720"/>
              <a:ext cx="71280" cy="216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93840" y="4726080"/>
              <a:ext cx="73080" cy="431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66920" y="4870440"/>
              <a:ext cx="71640" cy="2872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38560" y="5014800"/>
              <a:ext cx="71280" cy="1429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209840" y="5014800"/>
              <a:ext cx="71640" cy="1429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218200" y="4941720"/>
            <a:ext cx="431280" cy="216000"/>
            <a:chOff x="5218200" y="4941720"/>
            <a:chExt cx="431280" cy="216000"/>
          </a:xfrm>
        </p:grpSpPr>
        <p:sp>
          <p:nvSpPr>
            <p:cNvPr id="99" name=""/>
            <p:cNvSpPr/>
            <p:nvPr/>
          </p:nvSpPr>
          <p:spPr>
            <a:xfrm>
              <a:off x="5218200" y="5014800"/>
              <a:ext cx="71280" cy="14292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78200" y="4941720"/>
              <a:ext cx="71280" cy="2160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730920" y="3286080"/>
            <a:ext cx="647640" cy="1871640"/>
            <a:chOff x="6730920" y="3286080"/>
            <a:chExt cx="647640" cy="1871640"/>
          </a:xfrm>
        </p:grpSpPr>
        <p:sp>
          <p:nvSpPr>
            <p:cNvPr id="102" name=""/>
            <p:cNvSpPr/>
            <p:nvPr/>
          </p:nvSpPr>
          <p:spPr>
            <a:xfrm>
              <a:off x="6802200" y="4078080"/>
              <a:ext cx="73080" cy="1079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75280" y="3790800"/>
              <a:ext cx="73080" cy="1366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7018920" y="3502080"/>
              <a:ext cx="71640" cy="1655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48360" y="3286080"/>
              <a:ext cx="71280" cy="1871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91280" y="3933720"/>
              <a:ext cx="71280" cy="12240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560" y="4294080"/>
              <a:ext cx="73080" cy="863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7280" y="4726080"/>
              <a:ext cx="71280" cy="431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235640" y="3862440"/>
              <a:ext cx="71640" cy="1295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30920" y="4367160"/>
              <a:ext cx="71280" cy="790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922560" y="4681440"/>
            <a:ext cx="0" cy="10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22560" y="530208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00680" y="530208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t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572320" y="52228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7800" y="5883120"/>
            <a:ext cx="782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e to a trigger generated by a small activ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l high energ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vent” can be split into tw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453360" y="6093000"/>
            <a:ext cx="2232000" cy="649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360" y="109440"/>
            <a:ext cx="27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impl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9720" y="6253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Record all the hits from PMTs including dark no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8120" y="1058760"/>
            <a:ext cx="802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,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pply the “software” trig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define an ev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83760" y="1500120"/>
            <a:ext cx="7209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Realistic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ume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0kHz dark ra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data size of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6bytes/PMT h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~840MB/se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or a detector with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14k PM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Typical dark rate of PMT in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SK is 3~5kHz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3096000" y="3243960"/>
            <a:ext cx="358560" cy="187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781080" y="3424320"/>
            <a:ext cx="358920" cy="287280"/>
            <a:chOff x="3781080" y="3424320"/>
            <a:chExt cx="358920" cy="287280"/>
          </a:xfrm>
        </p:grpSpPr>
        <p:sp>
          <p:nvSpPr>
            <p:cNvPr id="123" name=""/>
            <p:cNvSpPr/>
            <p:nvPr/>
          </p:nvSpPr>
          <p:spPr>
            <a:xfrm rot="5400000">
              <a:off x="385236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5400000">
              <a:off x="389052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347640" y="3424320"/>
            <a:ext cx="358920" cy="287280"/>
            <a:chOff x="3347640" y="3424320"/>
            <a:chExt cx="358920" cy="287280"/>
          </a:xfrm>
        </p:grpSpPr>
        <p:sp>
          <p:nvSpPr>
            <p:cNvPr id="126" name=""/>
            <p:cNvSpPr/>
            <p:nvPr/>
          </p:nvSpPr>
          <p:spPr>
            <a:xfrm rot="5400000">
              <a:off x="341892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345708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413080" y="3424320"/>
            <a:ext cx="358560" cy="287280"/>
            <a:chOff x="2413080" y="3424320"/>
            <a:chExt cx="358560" cy="287280"/>
          </a:xfrm>
        </p:grpSpPr>
        <p:sp>
          <p:nvSpPr>
            <p:cNvPr id="129" name=""/>
            <p:cNvSpPr/>
            <p:nvPr/>
          </p:nvSpPr>
          <p:spPr>
            <a:xfrm rot="5400000">
              <a:off x="2484360" y="3495600"/>
              <a:ext cx="21600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2522520" y="3314880"/>
              <a:ext cx="139680" cy="35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2844720" y="35672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592000" y="3711600"/>
            <a:ext cx="1368360" cy="289080"/>
            <a:chOff x="2592000" y="3711600"/>
            <a:chExt cx="1368360" cy="289080"/>
          </a:xfrm>
        </p:grpSpPr>
        <p:sp>
          <p:nvSpPr>
            <p:cNvPr id="133" name=""/>
            <p:cNvSpPr/>
            <p:nvPr/>
          </p:nvSpPr>
          <p:spPr>
            <a:xfrm>
              <a:off x="396036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2728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9200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5400000">
            <a:off x="1006920" y="3243960"/>
            <a:ext cx="358560" cy="187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692360" y="3424320"/>
            <a:ext cx="358560" cy="287280"/>
            <a:chOff x="1692360" y="3424320"/>
            <a:chExt cx="358560" cy="287280"/>
          </a:xfrm>
        </p:grpSpPr>
        <p:sp>
          <p:nvSpPr>
            <p:cNvPr id="138" name=""/>
            <p:cNvSpPr/>
            <p:nvPr/>
          </p:nvSpPr>
          <p:spPr>
            <a:xfrm rot="5400000">
              <a:off x="1763640" y="3495600"/>
              <a:ext cx="21600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5400000">
              <a:off x="1801800" y="3314880"/>
              <a:ext cx="139680" cy="35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258560" y="3424320"/>
            <a:ext cx="358920" cy="287280"/>
            <a:chOff x="1258560" y="3424320"/>
            <a:chExt cx="358920" cy="287280"/>
          </a:xfrm>
        </p:grpSpPr>
        <p:sp>
          <p:nvSpPr>
            <p:cNvPr id="141" name=""/>
            <p:cNvSpPr/>
            <p:nvPr/>
          </p:nvSpPr>
          <p:spPr>
            <a:xfrm rot="5400000">
              <a:off x="132984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136800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24000" y="3424320"/>
            <a:ext cx="358560" cy="287280"/>
            <a:chOff x="324000" y="3424320"/>
            <a:chExt cx="358560" cy="287280"/>
          </a:xfrm>
        </p:grpSpPr>
        <p:sp>
          <p:nvSpPr>
            <p:cNvPr id="144" name=""/>
            <p:cNvSpPr/>
            <p:nvPr/>
          </p:nvSpPr>
          <p:spPr>
            <a:xfrm rot="5400000">
              <a:off x="395280" y="3495600"/>
              <a:ext cx="21600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433440" y="3314880"/>
              <a:ext cx="139680" cy="35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755280" y="35672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02920" y="3711600"/>
            <a:ext cx="1368360" cy="289080"/>
            <a:chOff x="502920" y="3711600"/>
            <a:chExt cx="1368360" cy="289080"/>
          </a:xfrm>
        </p:grpSpPr>
        <p:sp>
          <p:nvSpPr>
            <p:cNvPr id="148" name=""/>
            <p:cNvSpPr/>
            <p:nvPr/>
          </p:nvSpPr>
          <p:spPr>
            <a:xfrm>
              <a:off x="187128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3820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292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 flipH="1">
            <a:off x="107640" y="4653000"/>
            <a:ext cx="3384360" cy="14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4359240"/>
            <a:ext cx="0" cy="2952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402920" y="4359240"/>
            <a:ext cx="1800" cy="2952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7704360" y="3243960"/>
            <a:ext cx="358560" cy="187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389440" y="3424320"/>
            <a:ext cx="358920" cy="287280"/>
            <a:chOff x="8389440" y="3424320"/>
            <a:chExt cx="358920" cy="287280"/>
          </a:xfrm>
        </p:grpSpPr>
        <p:sp>
          <p:nvSpPr>
            <p:cNvPr id="156" name=""/>
            <p:cNvSpPr/>
            <p:nvPr/>
          </p:nvSpPr>
          <p:spPr>
            <a:xfrm rot="5400000">
              <a:off x="846072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849888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7956720" y="3424320"/>
            <a:ext cx="358560" cy="287280"/>
            <a:chOff x="7956720" y="3424320"/>
            <a:chExt cx="358560" cy="287280"/>
          </a:xfrm>
        </p:grpSpPr>
        <p:sp>
          <p:nvSpPr>
            <p:cNvPr id="159" name=""/>
            <p:cNvSpPr/>
            <p:nvPr/>
          </p:nvSpPr>
          <p:spPr>
            <a:xfrm rot="5400000">
              <a:off x="8028000" y="3495600"/>
              <a:ext cx="21600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5400000">
              <a:off x="8066160" y="3314880"/>
              <a:ext cx="139680" cy="35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7021080" y="3424320"/>
            <a:ext cx="358920" cy="287280"/>
            <a:chOff x="7021080" y="3424320"/>
            <a:chExt cx="358920" cy="287280"/>
          </a:xfrm>
        </p:grpSpPr>
        <p:sp>
          <p:nvSpPr>
            <p:cNvPr id="162" name=""/>
            <p:cNvSpPr/>
            <p:nvPr/>
          </p:nvSpPr>
          <p:spPr>
            <a:xfrm rot="5400000">
              <a:off x="709236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5400000">
              <a:off x="713052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 flipH="1">
            <a:off x="7453080" y="35672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200720" y="3711600"/>
            <a:ext cx="1368360" cy="289080"/>
            <a:chOff x="7200720" y="3711600"/>
            <a:chExt cx="1368360" cy="289080"/>
          </a:xfrm>
        </p:grpSpPr>
        <p:sp>
          <p:nvSpPr>
            <p:cNvPr id="166" name=""/>
            <p:cNvSpPr/>
            <p:nvPr/>
          </p:nvSpPr>
          <p:spPr>
            <a:xfrm>
              <a:off x="856908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13600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0072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rot="5400000">
            <a:off x="5615280" y="3243960"/>
            <a:ext cx="358560" cy="187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300360" y="3424320"/>
            <a:ext cx="358920" cy="287280"/>
            <a:chOff x="6300360" y="3424320"/>
            <a:chExt cx="358920" cy="287280"/>
          </a:xfrm>
        </p:grpSpPr>
        <p:sp>
          <p:nvSpPr>
            <p:cNvPr id="171" name=""/>
            <p:cNvSpPr/>
            <p:nvPr/>
          </p:nvSpPr>
          <p:spPr>
            <a:xfrm rot="5400000">
              <a:off x="637164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5400000">
              <a:off x="640980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866920" y="3424320"/>
            <a:ext cx="358920" cy="287280"/>
            <a:chOff x="5866920" y="3424320"/>
            <a:chExt cx="358920" cy="287280"/>
          </a:xfrm>
        </p:grpSpPr>
        <p:sp>
          <p:nvSpPr>
            <p:cNvPr id="174" name=""/>
            <p:cNvSpPr/>
            <p:nvPr/>
          </p:nvSpPr>
          <p:spPr>
            <a:xfrm rot="5400000">
              <a:off x="593820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5400000">
              <a:off x="597636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932000" y="3424320"/>
            <a:ext cx="358920" cy="287280"/>
            <a:chOff x="4932000" y="3424320"/>
            <a:chExt cx="358920" cy="287280"/>
          </a:xfrm>
        </p:grpSpPr>
        <p:sp>
          <p:nvSpPr>
            <p:cNvPr id="177" name=""/>
            <p:cNvSpPr/>
            <p:nvPr/>
          </p:nvSpPr>
          <p:spPr>
            <a:xfrm rot="5400000">
              <a:off x="500328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5400000">
              <a:off x="504144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 flipH="1">
            <a:off x="5364000" y="35672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111280" y="3711600"/>
            <a:ext cx="1368360" cy="289080"/>
            <a:chOff x="5111280" y="3711600"/>
            <a:chExt cx="1368360" cy="289080"/>
          </a:xfrm>
        </p:grpSpPr>
        <p:sp>
          <p:nvSpPr>
            <p:cNvPr id="181" name=""/>
            <p:cNvSpPr/>
            <p:nvPr/>
          </p:nvSpPr>
          <p:spPr>
            <a:xfrm>
              <a:off x="647964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4656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1128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 flipV="1">
            <a:off x="5580000" y="4653000"/>
            <a:ext cx="3456000" cy="14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885080" y="4359240"/>
            <a:ext cx="0" cy="2952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12000" y="4367160"/>
            <a:ext cx="0" cy="2872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4160" y="40006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43240" y="40006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62520" y="40006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950160" y="40006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78000" y="4799160"/>
            <a:ext cx="172728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61440" y="47991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4799160"/>
            <a:ext cx="172728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11080" y="47991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31640" y="5300280"/>
            <a:ext cx="7559640" cy="324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93080" y="5159520"/>
            <a:ext cx="0" cy="14436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43080" y="4654440"/>
            <a:ext cx="0" cy="1526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27280" y="5303880"/>
            <a:ext cx="0" cy="216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32360" y="5303880"/>
            <a:ext cx="0" cy="216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76440" y="5521320"/>
            <a:ext cx="2087640" cy="358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86080" y="5521320"/>
            <a:ext cx="22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s 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44880" y="5521320"/>
            <a:ext cx="2087640" cy="358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62440" y="5521320"/>
            <a:ext cx="22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s 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05000" y="6095880"/>
            <a:ext cx="3097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16080" y="6094440"/>
            <a:ext cx="0" cy="36036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016080" y="6453360"/>
            <a:ext cx="360360" cy="144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76440" y="6238800"/>
            <a:ext cx="273528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32240" y="623880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 trigg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11720" y="6453360"/>
            <a:ext cx="35892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69200" y="6093000"/>
            <a:ext cx="22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alysis &amp; stor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43080" y="5159520"/>
            <a:ext cx="0" cy="15228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93080" y="4654440"/>
            <a:ext cx="0" cy="1447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27280" y="5878440"/>
            <a:ext cx="0" cy="216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32360" y="5878440"/>
            <a:ext cx="0" cy="216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3760" y="2924280"/>
            <a:ext cx="73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ossible design ( Schematic diagram of data flow part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20000" y="4398840"/>
            <a:ext cx="26726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Eth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or dedicated data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640" y="513252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66"/>
                </a:solidFill>
                <a:latin typeface="Arial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403280" y="5876640"/>
            <a:ext cx="289080" cy="4316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1320" y="6308640"/>
            <a:ext cx="2492640" cy="337320"/>
          </a:xfrm>
          <a:prstGeom prst="rect">
            <a:avLst/>
          </a:prstGeom>
          <a:noFill/>
          <a:ln w="19080">
            <a:solidFill>
              <a:srgbClr val="33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used to be “event-builder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77120" y="5421240"/>
            <a:ext cx="255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Sort PMT h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in the order of tim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6011640" y="5734080"/>
            <a:ext cx="36036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443640" y="5445000"/>
            <a:ext cx="2592360" cy="576360"/>
          </a:xfrm>
          <a:prstGeom prst="rect">
            <a:avLst/>
          </a:prstGeom>
          <a:noFill/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99440" y="101520"/>
            <a:ext cx="44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Data transfer via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7760" y="4051440"/>
            <a:ext cx="76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Network is quite reliable but not perfect, as al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44388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en TCP/IP might be a cause of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vice driver or network equipment might be broken or bug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me defects in equipment or software creates corrupt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94600" y="5373720"/>
            <a:ext cx="70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Careful design of the network is very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32000" y="575928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raffic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luding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typical packet (data block) siz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est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Monitoring poi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where and how to tap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2480" y="585720"/>
            <a:ext cx="795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Network performan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eavily depe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the </a:t>
            </a: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size of each data pack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the design of the </a:t>
            </a: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network topolog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8360" y="5614920"/>
            <a:ext cx="43164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5200" y="1700280"/>
            <a:ext cx="842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The characteristic of the data flow of online/DAQ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differ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rom the </a:t>
            </a: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usual client-server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29480" y="2468520"/>
            <a:ext cx="710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ually,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the server sends large amount of data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sed on the request from a cli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DAQ system,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server “collects” dat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2680" y="3429000"/>
            <a:ext cx="834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network components are ( sometimes ) desig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maximize their performance for the “usual” client-server mode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021440" y="5302080"/>
            <a:ext cx="194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01600" y="53020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nd-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21440" y="5302080"/>
            <a:ext cx="1943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75240" y="53020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dout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4160" y="101520"/>
            <a:ext cx="490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High availability (HA)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5640" y="692280"/>
            <a:ext cx="825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e online/DAQ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one of the computer will be down at any mom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143208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reduce downtime of the detecto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ept of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the HA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eems to be useful and attr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43400" y="2100240"/>
            <a:ext cx="8274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ways monitor the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tatus of the system (compute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ce one of the computer seems to have proble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stand-by machine starts work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Used for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web, database and disk serve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ually, complete replica of the server is prepa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0120" y="3735360"/>
            <a:ext cx="829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the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nline/DAQ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it is quite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ymmetri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thu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ly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a few backups for each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ill be suffici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4360" y="5300640"/>
            <a:ext cx="1943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18160" y="5300640"/>
            <a:ext cx="19429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5011560"/>
            <a:ext cx="849636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5240" y="53006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dout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721600" y="53006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dout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421080" y="5011560"/>
            <a:ext cx="0" cy="2890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653080" y="5011560"/>
            <a:ext cx="0" cy="2890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6720" y="5011560"/>
            <a:ext cx="0" cy="2890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9280" y="5300640"/>
            <a:ext cx="201780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0280" y="530064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tus 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16000" y="5011560"/>
            <a:ext cx="0" cy="2890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19640" y="5732640"/>
            <a:ext cx="1152360" cy="431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571640" y="5732640"/>
            <a:ext cx="1079640" cy="431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635280" y="6164280"/>
            <a:ext cx="1871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71600" y="62373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r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16000" y="5732640"/>
            <a:ext cx="0" cy="6476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6380280"/>
            <a:ext cx="338436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716360" y="5300640"/>
            <a:ext cx="1943280" cy="432000"/>
            <a:chOff x="4716360" y="5300640"/>
            <a:chExt cx="1943280" cy="432000"/>
          </a:xfrm>
        </p:grpSpPr>
        <p:sp>
          <p:nvSpPr>
            <p:cNvPr id="260" name=""/>
            <p:cNvSpPr/>
            <p:nvPr/>
          </p:nvSpPr>
          <p:spPr>
            <a:xfrm>
              <a:off x="4716360" y="5300640"/>
              <a:ext cx="1943280" cy="4320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97520" y="5300640"/>
              <a:ext cx="13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topped…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 flipV="1">
            <a:off x="4572000" y="5732280"/>
            <a:ext cx="3384720" cy="431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8920" y="443700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799160" y="4699080"/>
            <a:ext cx="39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Dedicated line for the status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72880" y="587700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Data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826920" y="1830240"/>
            <a:ext cx="756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Simple forma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embedded “easy to identify” tag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e always very use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0720" y="101520"/>
            <a:ext cx="65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Data format used in the onli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7600" y="620640"/>
            <a:ext cx="85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ld be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differ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rom the one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used in the offline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01840" y="5300640"/>
            <a:ext cx="845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so, it is helpfu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keep the “original” form of the (corrupted)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identifying the cause of a trouble </a:t>
            </a: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in the offline forma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99400" y="379872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52520" y="2525760"/>
            <a:ext cx="71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may need to capture and analyze data on th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investigate the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33840" y="3413160"/>
            <a:ext cx="802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not easy to </a:t>
            </a:r>
            <a:r>
              <a:rPr b="0" lang="en-US" sz="2000" spc="-1" strike="noStrike">
                <a:solidFill>
                  <a:srgbClr val="ff33cc"/>
                </a:solidFill>
                <a:latin typeface="Comic Sans MS"/>
              </a:rPr>
              <a:t>keep up with the updates of the offline softwa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37400" y="3773520"/>
            <a:ext cx="749772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ce you start the experimen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people want to take data as much as possib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simple update of the libr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y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cause “unexpected” troubl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7760" y="1052640"/>
            <a:ext cx="80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Preparing a data format conver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is easier and safer in various reasons, sti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36440" y="2924280"/>
            <a:ext cx="273528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8360" y="2421000"/>
            <a:ext cx="2087640" cy="358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4560" y="1916280"/>
            <a:ext cx="187164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1330560" y="656280"/>
            <a:ext cx="358560" cy="187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3360" y="141444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00080" y="81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97560" y="692280"/>
            <a:ext cx="579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Monitoring the data qual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the quick detection of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important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92680" y="4005360"/>
            <a:ext cx="480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Error detection - Possible check poi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) Electronics (front-end bo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) Readou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) Hits sorter + Mer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) Intelligent trigge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) Data quality 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27080" y="1857240"/>
            <a:ext cx="19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980720" y="838080"/>
            <a:ext cx="358920" cy="287280"/>
            <a:chOff x="1980720" y="838080"/>
            <a:chExt cx="358920" cy="287280"/>
          </a:xfrm>
        </p:grpSpPr>
        <p:sp>
          <p:nvSpPr>
            <p:cNvPr id="285" name=""/>
            <p:cNvSpPr/>
            <p:nvPr/>
          </p:nvSpPr>
          <p:spPr>
            <a:xfrm rot="5400000">
              <a:off x="205200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5400000">
              <a:off x="209016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1547280" y="838080"/>
            <a:ext cx="358920" cy="287280"/>
            <a:chOff x="1547280" y="838080"/>
            <a:chExt cx="358920" cy="287280"/>
          </a:xfrm>
        </p:grpSpPr>
        <p:sp>
          <p:nvSpPr>
            <p:cNvPr id="288" name=""/>
            <p:cNvSpPr/>
            <p:nvPr/>
          </p:nvSpPr>
          <p:spPr>
            <a:xfrm rot="5400000">
              <a:off x="161856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5400000">
              <a:off x="165672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612360" y="838080"/>
            <a:ext cx="358920" cy="287280"/>
            <a:chOff x="612360" y="838080"/>
            <a:chExt cx="358920" cy="287280"/>
          </a:xfrm>
        </p:grpSpPr>
        <p:sp>
          <p:nvSpPr>
            <p:cNvPr id="291" name=""/>
            <p:cNvSpPr/>
            <p:nvPr/>
          </p:nvSpPr>
          <p:spPr>
            <a:xfrm rot="5400000">
              <a:off x="68364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5400000">
              <a:off x="72180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 flipH="1">
            <a:off x="1044360" y="9810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92000" y="1125360"/>
            <a:ext cx="1368720" cy="289080"/>
            <a:chOff x="792000" y="1125360"/>
            <a:chExt cx="1368720" cy="289080"/>
          </a:xfrm>
        </p:grpSpPr>
        <p:sp>
          <p:nvSpPr>
            <p:cNvPr id="295" name=""/>
            <p:cNvSpPr/>
            <p:nvPr/>
          </p:nvSpPr>
          <p:spPr>
            <a:xfrm>
              <a:off x="216072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2728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9200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 flipH="1">
            <a:off x="1511280" y="177336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17760" y="242244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2520" y="292428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 trigg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96520" y="19177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511280" y="227808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1511280" y="278280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1511280" y="335268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4360" y="3502080"/>
            <a:ext cx="273528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8000" y="3500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040" y="109440"/>
            <a:ext cx="65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n designing the data handl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53880" y="6021360"/>
            <a:ext cx="843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At each checkpoint, characteristics of accumulated data are diffe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Monitor data quality at each point will be effe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76720" y="2241720"/>
            <a:ext cx="574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cessary for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the troubleshoot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may want to 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 minor trou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08360" y="33577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understand the situ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t is necessary to keep “erroneous”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00080" y="81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2040" y="109440"/>
            <a:ext cx="65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n designing the data handl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387240" y="3213000"/>
            <a:ext cx="507420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There might be no PMT hits in a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for certain period of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6440" y="2924280"/>
            <a:ext cx="2735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68360" y="2421000"/>
            <a:ext cx="2087640" cy="35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4560" y="1916280"/>
            <a:ext cx="1871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5400000">
            <a:off x="1332000" y="691920"/>
            <a:ext cx="358560" cy="18000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320" y="141444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980720" y="838080"/>
            <a:ext cx="358920" cy="287280"/>
            <a:chOff x="1980720" y="838080"/>
            <a:chExt cx="358920" cy="287280"/>
          </a:xfrm>
        </p:grpSpPr>
        <p:sp>
          <p:nvSpPr>
            <p:cNvPr id="320" name=""/>
            <p:cNvSpPr/>
            <p:nvPr/>
          </p:nvSpPr>
          <p:spPr>
            <a:xfrm rot="5400000">
              <a:off x="205200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5400000">
              <a:off x="209016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1547280" y="838080"/>
            <a:ext cx="358920" cy="287280"/>
            <a:chOff x="1547280" y="838080"/>
            <a:chExt cx="358920" cy="287280"/>
          </a:xfrm>
        </p:grpSpPr>
        <p:sp>
          <p:nvSpPr>
            <p:cNvPr id="323" name=""/>
            <p:cNvSpPr/>
            <p:nvPr/>
          </p:nvSpPr>
          <p:spPr>
            <a:xfrm rot="5400000">
              <a:off x="161856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5400000">
              <a:off x="165672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612360" y="838080"/>
            <a:ext cx="358920" cy="287280"/>
            <a:chOff x="612360" y="838080"/>
            <a:chExt cx="358920" cy="287280"/>
          </a:xfrm>
        </p:grpSpPr>
        <p:sp>
          <p:nvSpPr>
            <p:cNvPr id="326" name=""/>
            <p:cNvSpPr/>
            <p:nvPr/>
          </p:nvSpPr>
          <p:spPr>
            <a:xfrm rot="5400000">
              <a:off x="68364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5400000">
              <a:off x="72180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 flipH="1">
            <a:off x="1044360" y="9810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792000" y="1125360"/>
            <a:ext cx="1368720" cy="289080"/>
            <a:chOff x="792000" y="1125360"/>
            <a:chExt cx="1368720" cy="289080"/>
          </a:xfrm>
        </p:grpSpPr>
        <p:sp>
          <p:nvSpPr>
            <p:cNvPr id="330" name=""/>
            <p:cNvSpPr/>
            <p:nvPr/>
          </p:nvSpPr>
          <p:spPr>
            <a:xfrm>
              <a:off x="216072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2728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200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 flipH="1">
            <a:off x="1511280" y="177336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5120" y="242244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 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82520" y="292428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 trigg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6520" y="19177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511280" y="227808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1511280" y="278280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1511280" y="335268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44360" y="3502080"/>
            <a:ext cx="2735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8000" y="35020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58040" y="765000"/>
            <a:ext cx="50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1</a:t>
            </a:r>
            <a:r>
              <a:rPr b="0" lang="en-US" sz="2400" spc="-1" strike="noStrike" baseline="30000">
                <a:solidFill>
                  <a:srgbClr val="0000cc"/>
                </a:solidFill>
                <a:latin typeface="Comic Sans MS"/>
              </a:rPr>
              <a:t>st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 check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ront-end electronics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6280" y="5357880"/>
            <a:ext cx="878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ent FPGA can provide smart hardware level error det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preparing the error detection cod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n’t forget to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keep both the error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and “erroneous data” themsel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916360" y="1617840"/>
            <a:ext cx="57592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requirement for the electro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n the continuous data taking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184560" y="2421000"/>
            <a:ext cx="578016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The front-end board should be desig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to generate periodic “heart beat” sig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492360" y="4091040"/>
            <a:ext cx="55454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difficult to identif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ther the board without PMT h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s 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alive or no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the later check 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6:01:19Z</dcterms:created>
  <dc:creator>Yoshinari Hayato</dc:creator>
  <dc:description/>
  <dc:language>en-US</dc:language>
  <cp:lastModifiedBy>Yoshinari Hayato</cp:lastModifiedBy>
  <dcterms:modified xsi:type="dcterms:W3CDTF">2006-09-23T13:09:08Z</dcterms:modified>
  <cp:revision>32</cp:revision>
  <dc:subject/>
  <dc:title>Online and offline data handling  for large detectors (designed for non-accelerator experiments)</dc:title>
</cp:coreProperties>
</file>